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AC58-70AA-4044-B0C7-EBF13BC4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F69F-DBDD-4695-A129-AC45AAD0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C619-0AE5-40D9-8875-974B9DAF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AE07-EEA0-40E9-9B4B-ADD5468D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CCA1-A778-4E90-A629-0DB1C3E5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9623-A2E6-4BF7-9735-C7A5FBA7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036B-80A6-4789-886F-F23F9864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B4F3-1665-497C-8D0C-6B5A4DEA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A907-F9DD-4CA8-A8F8-F34344A7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34B4-CC58-43DE-BD6A-6B78F069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212D-A423-47AD-AC78-7CBAE030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7D79-A805-493A-B54E-8F31296E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4943-6E17-49D2-B89A-338BBF3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8155-AAE9-4D91-A3D2-D041D7C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9C5D-CB2B-4326-83DF-2B5BFF2F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C096-ED19-47FA-86B5-5D2E0571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67E2-58A5-4DFE-9560-AF24C7E2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4305-BCC4-4E34-8673-5487D424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901E-E8D6-487D-B60A-E4FBA125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BC3F-4C52-491C-8914-9116C87E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6E75-A0F1-4523-BBDA-3D249266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8EB5-9141-4872-92BF-159CD1E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A8F4-A4B8-4580-98A8-221B6C2B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5A73-D48F-491B-9176-0CE2832B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7152-BD7C-4FE1-86C3-6B1672AD566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74BB-5F2B-41C8-A662-D8FEE9A3C8C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496440"/>
            <a:ext cx="89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0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6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 знае в кой час, дали пред слънцето ощ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ли вечерта, или пък и посред нощ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небесни войски ще дойде наший Сп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Себе Си да вземе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523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кога, мил небесен Спа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ще пея аз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Исус иде! Алилу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Алилуя! Амин!"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4886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пладне или надвечер, аз не зна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ли в късна нощ, но е близо веч края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лава на Отца Си и в най-последний ч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да събере Той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кога, мил небесен Спа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ще пея аз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Исус иде! Алилу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Алилуя! Амин!"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14886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радост е там, както сам Той ни реч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 болест, ни скръб, ни грях ще има веч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ома на Отца ще ни заведе сам Т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ам ще сме в веч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кога, мил небесен Спа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ще пея аз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Исус иде! Алилу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Алилуя! Амин!"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41:47Z</dcterms:modified>
  <cp:revision>61</cp:revision>
  <dc:subject/>
  <dc:title>Slide 1</dc:title>
</cp:coreProperties>
</file>